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0FB1-393C-4F4E-B35B-CD180E64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DCC9-DBB6-430D-A25F-D99F57B4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524E-6236-4239-956B-75684EB8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7C0F-DA3B-40ED-B2DD-45B67A7C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CD8C-2F9F-489A-9D08-60C9BBA1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491C-DADE-4778-816C-31CF6A6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BB06-D9CA-4537-9AE4-F58C3AF5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40E8-3861-4A29-B587-C560DCFC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70CE-7E44-4F56-82CA-358BAE52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F301-8957-4C17-BB68-CDD0C5CE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FED0-823D-48E5-A567-F30F0790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766D-259A-44DA-A787-2C6F6693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3E4C-2B80-4F0B-876C-97F9FDC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B076-80E3-4829-AF95-2228070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8495-717E-4606-9BF3-2C83A93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E566-8ADB-416D-BFA0-96C23BE7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3A69-E8FE-4239-A119-A6A47391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24B7-586D-415A-BBA9-A6D62FCD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AE82-1774-4411-8C8C-743F9C6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DD25-8931-49A4-98E0-42A20E94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C6D6-1B0B-4F38-83ED-0C0FCD08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C3BB-5049-4746-8F08-C8C0E6B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9AC0-E7AB-4311-A9E2-24CB2CA5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F9538-2BDA-4F68-BCF1-F1D70052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F210-1F2E-4BE5-ABDF-53E9F6BE26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FF51-3253-4DC4-8811-1715E5E68E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beling Claims and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se help facilitate private, voluntary labeling eff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aim regulations: ensure truthfulness of a label (e.g., “heart health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ndards: help standardize the meaning of a label or claim (e.g.,  “natural” or “grass fed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cess certification and verification programs (e.g., Certified Angus Bee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des and Standards (e.g., #2 yellow cor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duct ba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ans send information to consumers about the quality available for sa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Japanese ban on U.S. beef following BSE s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EU ban on growth hormones in beef pro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formation Provision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ducational campaig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 on tobac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ichelle Obama’s “Let’s Move” campa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od pyramid and food pl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formation dissemi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ice repor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AQs on biotechnology, irradiation, cloning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ffective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523880"/>
          <a:ext cx="7696440" cy="4445280"/>
        </p:xfrm>
        <a:graphic>
          <a:graphicData uri="http://schemas.openxmlformats.org/drawingml/2006/table">
            <a:tbl>
              <a:tblPr/>
              <a:tblGrid>
                <a:gridCol w="3170520"/>
                <a:gridCol w="1131840"/>
                <a:gridCol w="1131840"/>
                <a:gridCol w="1130400"/>
                <a:gridCol w="1131840"/>
              </a:tblGrid>
              <a:tr h="24444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fficiency or Performance Criteria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locative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ynam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onmarke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Facilitate more voluntary labeling programs (e.g., process certification programs, standards)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905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acilitate more mandatory labeling programs (e.g., COOL labeling)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Ban “low quality” products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923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rsue more education or information provision programs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984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ursue a more </a:t>
                      </a:r>
                      <a:r>
                        <a:rPr b="1" i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aissez faire </a:t>
                      </a: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pproach relative to the status quo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/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 Need to Lea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ow do information policies change consumers’ beliefs about the safety/quality of existing product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re there cases where consumers would prefer not to know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OI if consumers never find out the trut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 Need to Lea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alue of information if consumers have limited attentions or face “too many” choice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alue of government information campaig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of Information Reg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ly more on consumer access to modern technology (e.g., iPhones, bar codes, etc.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etter cost-benefit analy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work asking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ho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f information could be beneficially presen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hould information policies promote social goals or ensure “truth in advertising”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onsumer Information and Label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yson L. Lu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ewer Americans than ever before are connected to agriculture or know where their food comes fr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s this change good or ba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does the change imply for food information polic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y Food Information Polic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conomic motiv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economic motiv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ymmetric inform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kerlof’s lemon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es the presence of asymmetric information cause a market failur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Quality uncertain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consumers can’t tell whether a product is “low” or “high” quality, their WTP will not be as high as it might be with better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ck of Credible Signa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sumers may not trust firms to tell the truth about quality claims – especially for credence g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n reputation help solve the problem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n-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umers’ “right to know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upport favored grou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mall farmers, local farmer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aternalis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udge consumers to make “better” cho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eviate External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forming consumers of 3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party consequences of consumption might alter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lue of Information (VO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e VOI is the most consumers are willing to pay to be better inform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actically, this entails seeing how consumers change behavior after receiv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chnically, VOI is determined by calculating how many $ we’d have to give someone to make the same choices they did before they received inform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ndatory Lab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ducers or retailers are required to label 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.g., mandatory nutritional labeling, mandatory country of origi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gredient-targeted mandatory labeling polices have been less successful in U.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mandatory “rBST” or “GMO” labeling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15:37:15Z</dcterms:modified>
  <cp:revision>12</cp:revision>
  <dc:subject/>
  <dc:title>U.S. Policies Affecting Food and Agricultural Marketing</dc:title>
</cp:coreProperties>
</file>